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4A1-0E2D-4628-A6C4-00ECF89A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D7F-6B12-4598-AB65-BAF78B9B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488-9868-40EC-9189-AC7D80FD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1341-2318-435F-8552-7D10B22A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8D5-A975-4A3B-BB58-8C1C1E5F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85BB-7583-42AF-A3AC-742B7050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B8B-7F46-441B-9DC2-F8E6DE29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297-6831-499D-B43D-49040DF9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EB2-8454-4459-88D3-0617932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39B-2027-4669-90FE-A6CC2F8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A3C-15F1-4D10-B842-4C2B193B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C33-64C4-4695-8ABA-930741F9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38E-B19B-4EBD-8488-F0C411E0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9-1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I can identify problems and evaluate solu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895120"/>
            <a:ext cx="883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atch the vide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What was ONE problem and the solution/s?  Was/were the solution/s effective?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 Problems/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Problems and Solutions 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"/>
              </a:rPr>
              <a:t>“Fighting for Fairnes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will begin the problem/solution graphic organizer together, and then you will finish it by your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you complete the graphic organizer, read quiet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Independent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hoose an article from the front of the room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MPLET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5 annotations on the artic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 RR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r the RRJ, answer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major problem (conflict) in your article?  What were the solutions?  Explain if you believe the solution was or was not effe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RRJ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main problem in my article is that 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solution was to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know this because the text said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text also mentioned 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________________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 do OR do not believe this solution was effective because ___________________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RRJs with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21:16:55Z</dcterms:created>
  <dc:creator>Administrator</dc:creator>
  <dc:description/>
  <dc:language>en-US</dc:language>
  <cp:lastModifiedBy>Administrator</cp:lastModifiedBy>
  <dcterms:modified xsi:type="dcterms:W3CDTF">2010-08-31T22:28:27Z</dcterms:modified>
  <cp:revision>4</cp:revision>
  <dc:subject/>
  <dc:title>9-1 I can identify problems and evaluate solutions.</dc:title>
</cp:coreProperties>
</file>